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96E8B-EA88-4420-83A1-8EAF47BDC5D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o je první snímek prezentac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 tomto místě se představím a řeknu účastníkům kursu několik základních informac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ákladní informace o kur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a tomto místě se zmíním o přednostech PowerPointu a pak následují slidy s příklady využít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B88F-7AE6-4306-8FF0-0E18F84DE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F8D9-715A-4CCE-BAF2-53195A418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FF12-2ACB-45B3-8F79-82741FA68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1426-24CB-494B-AF79-A77916618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792A-BCC2-48C4-A996-F04B48FC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0684-3C85-40E6-BE55-E7C96EB59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2D38-D79D-40FD-BE56-91814CDD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AD91-836E-47DE-A0AF-B777CC329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977F-8BBC-473B-B3A5-6A56E367E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21C7-DDBD-4C11-B69B-ECEA9AD3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2435-3B13-4C7F-B104-922D4DD1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0A89-B7D0-47C8-AE2C-812B264B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S PowerPoi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iří Ber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27900-8A5A-42FD-A3D6-45A8E355A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meteopress.cz/" TargetMode="External"/><Relationship Id="rId2" Type="http://schemas.openxmlformats.org/officeDocument/2006/relationships/slide" Target=""/><Relationship Id="rId3" Type="http://schemas.openxmlformats.org/officeDocument/2006/relationships/hyperlink" Target="file:///nov&#225;%20blblost.ppt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iří Be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S Power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372E-6315-4019-84B3-6EE807C13DF0}" type="slidenum">
              <a:t>1</a:t>
            </a:fld>
          </a:p>
        </p:txBody>
      </p:sp>
    </p:spTree>
  </p:cSld>
  <p:transition spd="med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eště spoustu jiných věcí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6951-EAC1-4029-9F68-8664B86843B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2466 -0.09537 C 0.59028 -0.10879 0.65608 -0.12222 0.51111 -0.09537 C 0.36632 -0.06828 -0.35746 0.02709 -0.34427 0.06667 C -0.33125 0.10625 0.59601 0.11436 0.59046 0.14213 C 0.58507 0.17014 -0.37552 0.19746 -0.37725 0.23403 C -0.37864 0.27037 0.58212 0.31274 0.58073 0.36088 C 0.57952 0.40903 -0.38264 0.4919 -0.38489 0.52292 C -0.38732 0.55394 0.48334 0.48056 0.56719 0.54723 C 0.65122 0.61366 0.20243 0.96436 0.11823 0.92246 C 0.03403 0.88056 0.04792 0.58843 0.06198 0.29607 E">
                                      <p:cBhvr>
                                        <p:cTn id="159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éma kur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je to PowerPoint a k čemu slouží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Jak se s PowerPointem pracuj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0695-C483-4212-92BC-9E2C201933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program pro tvorbu prezentací (prezentace nám umožňuje efektivně a pěkně předvádět někomu své dokumen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s velkým odstupem nejpoužívanější program ve svém ob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5EF0-2289-4ECE-9886-B01ECC00C44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765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2800440"/>
            <a:ext cx="5410080" cy="405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2725560" y="1557360"/>
            <a:ext cx="6418440" cy="29955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859280" y="4292640"/>
            <a:ext cx="4284720" cy="25653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3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point nám umožňuje pracovat s efektní grafik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BEA2-21A1-4A86-8B3F-E21F81E3F2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werPoint má speciální typy objektů pro zobrazení sché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57200" y="1600200"/>
            <a:ext cx="4037760" cy="2185200"/>
            <a:chOff x="457200" y="1600200"/>
            <a:chExt cx="4037760" cy="2185200"/>
          </a:xfrm>
        </p:grpSpPr>
        <p:cxnSp>
          <p:nvCxnSpPr>
            <p:cNvPr id="61" name="_s64527"/>
            <p:cNvCxnSpPr>
              <a:stCxn id="62" idx="3"/>
              <a:endCxn id="63" idx="2"/>
            </p:cNvCxnSpPr>
            <p:nvPr/>
          </p:nvCxnSpPr>
          <p:spPr>
            <a:xfrm flipV="1">
              <a:off x="2251800" y="2145960"/>
              <a:ext cx="299520" cy="54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" name="_s64524"/>
            <p:cNvCxnSpPr>
              <a:stCxn id="65" idx="0"/>
              <a:endCxn id="63" idx="2"/>
            </p:cNvCxnSpPr>
            <p:nvPr/>
          </p:nvCxnSpPr>
          <p:spPr>
            <a:xfrm flipV="1" rot="16200000">
              <a:off x="2527560" y="2168640"/>
              <a:ext cx="1092960" cy="1047240"/>
            </a:xfrm>
            <a:prstGeom prst="bentConnector3">
              <a:avLst>
                <a:gd name="adj1" fmla="val 504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6" name="_s64522"/>
            <p:cNvCxnSpPr>
              <a:stCxn id="67" idx="0"/>
              <a:endCxn id="63" idx="2"/>
            </p:cNvCxnSpPr>
            <p:nvPr/>
          </p:nvCxnSpPr>
          <p:spPr>
            <a:xfrm flipH="1" flipV="1" rot="5400000">
              <a:off x="1480680" y="2168280"/>
              <a:ext cx="1092960" cy="1047960"/>
            </a:xfrm>
            <a:prstGeom prst="bentConnector3">
              <a:avLst>
                <a:gd name="adj1" fmla="val 504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3" name="_s64518"/>
            <p:cNvSpPr/>
            <p:nvPr/>
          </p:nvSpPr>
          <p:spPr>
            <a:xfrm>
              <a:off x="1653480" y="1600200"/>
              <a:ext cx="1794600" cy="546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Šé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64519"/>
            <p:cNvSpPr/>
            <p:nvPr/>
          </p:nvSpPr>
          <p:spPr>
            <a:xfrm>
              <a:off x="606240" y="3239280"/>
              <a:ext cx="1794600" cy="546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dřízen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64521"/>
            <p:cNvSpPr/>
            <p:nvPr/>
          </p:nvSpPr>
          <p:spPr>
            <a:xfrm>
              <a:off x="2700360" y="3239280"/>
              <a:ext cx="1794600" cy="546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dřízen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64526"/>
            <p:cNvSpPr/>
            <p:nvPr/>
          </p:nvSpPr>
          <p:spPr>
            <a:xfrm>
              <a:off x="457200" y="2419560"/>
              <a:ext cx="1794600" cy="546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kretářk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909720" y="4076640"/>
            <a:ext cx="2104920" cy="2028960"/>
            <a:chOff x="909720" y="4076640"/>
            <a:chExt cx="2104920" cy="2028960"/>
          </a:xfrm>
        </p:grpSpPr>
        <p:sp>
          <p:nvSpPr>
            <p:cNvPr id="69" name="_s64583"/>
            <p:cNvSpPr/>
            <p:nvPr/>
          </p:nvSpPr>
          <p:spPr>
            <a:xfrm flipH="1" flipV="1">
              <a:off x="1442520" y="5000400"/>
              <a:ext cx="260280" cy="8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64582"/>
            <p:cNvSpPr/>
            <p:nvPr/>
          </p:nvSpPr>
          <p:spPr>
            <a:xfrm>
              <a:off x="909720" y="4643640"/>
              <a:ext cx="546120" cy="545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64581"/>
            <p:cNvSpPr/>
            <p:nvPr/>
          </p:nvSpPr>
          <p:spPr>
            <a:xfrm flipH="1">
              <a:off x="1641240" y="5389560"/>
              <a:ext cx="160560" cy="22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64580"/>
            <p:cNvSpPr/>
            <p:nvPr/>
          </p:nvSpPr>
          <p:spPr>
            <a:xfrm>
              <a:off x="1208160" y="5559480"/>
              <a:ext cx="546120" cy="546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64545"/>
            <p:cNvSpPr/>
            <p:nvPr/>
          </p:nvSpPr>
          <p:spPr>
            <a:xfrm>
              <a:off x="2122560" y="5389560"/>
              <a:ext cx="161640" cy="22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64544"/>
            <p:cNvSpPr/>
            <p:nvPr/>
          </p:nvSpPr>
          <p:spPr>
            <a:xfrm>
              <a:off x="2170080" y="5559480"/>
              <a:ext cx="546120" cy="546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64543"/>
            <p:cNvSpPr/>
            <p:nvPr/>
          </p:nvSpPr>
          <p:spPr>
            <a:xfrm flipV="1">
              <a:off x="2220840" y="5000400"/>
              <a:ext cx="262080" cy="8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64542"/>
            <p:cNvSpPr/>
            <p:nvPr/>
          </p:nvSpPr>
          <p:spPr>
            <a:xfrm>
              <a:off x="2468520" y="4643640"/>
              <a:ext cx="546120" cy="545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64541"/>
            <p:cNvSpPr/>
            <p:nvPr/>
          </p:nvSpPr>
          <p:spPr>
            <a:xfrm flipV="1">
              <a:off x="1962000" y="462240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64540"/>
            <p:cNvSpPr/>
            <p:nvPr/>
          </p:nvSpPr>
          <p:spPr>
            <a:xfrm>
              <a:off x="1689120" y="4076640"/>
              <a:ext cx="546120" cy="546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64539"/>
            <p:cNvSpPr/>
            <p:nvPr/>
          </p:nvSpPr>
          <p:spPr>
            <a:xfrm>
              <a:off x="1689120" y="4897440"/>
              <a:ext cx="546120" cy="546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4137480" y="3935160"/>
            <a:ext cx="1524600" cy="1893960"/>
            <a:chOff x="4137480" y="3935160"/>
            <a:chExt cx="1524600" cy="1893960"/>
          </a:xfrm>
        </p:grpSpPr>
        <p:sp>
          <p:nvSpPr>
            <p:cNvPr id="81" name="_s64549"/>
            <p:cNvSpPr/>
            <p:nvPr/>
          </p:nvSpPr>
          <p:spPr>
            <a:xfrm flipV="1">
              <a:off x="4645080" y="3934800"/>
              <a:ext cx="508680" cy="631800"/>
            </a:xfrm>
            <a:custGeom>
              <a:avLst/>
              <a:gdLst>
                <a:gd name="textAreaLeft" fmla="*/ 182520 w 508680"/>
                <a:gd name="textAreaRight" fmla="*/ 326160 w 50868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64550"/>
            <p:cNvSpPr/>
            <p:nvPr/>
          </p:nvSpPr>
          <p:spPr>
            <a:xfrm flipV="1">
              <a:off x="4391640" y="4566600"/>
              <a:ext cx="1015560" cy="631800"/>
            </a:xfrm>
            <a:custGeom>
              <a:avLst/>
              <a:gdLst>
                <a:gd name="textAreaLeft" fmla="*/ 223200 w 1015560"/>
                <a:gd name="textAreaRight" fmla="*/ 792360 w 1015560"/>
                <a:gd name="textAreaTop" fmla="*/ 138960 h 631800"/>
                <a:gd name="textAreaBottom" fmla="*/ 49284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64551"/>
            <p:cNvSpPr/>
            <p:nvPr/>
          </p:nvSpPr>
          <p:spPr>
            <a:xfrm flipV="1">
              <a:off x="4137480" y="5198400"/>
              <a:ext cx="1524600" cy="630360"/>
            </a:xfrm>
            <a:custGeom>
              <a:avLst/>
              <a:gdLst>
                <a:gd name="textAreaLeft" fmla="*/ 264600 w 1524600"/>
                <a:gd name="textAreaRight" fmla="*/ 1260000 w 1524600"/>
                <a:gd name="textAreaTop" fmla="*/ 109440 h 630360"/>
                <a:gd name="textAreaBottom" fmla="*/ 520920 h 63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6607440" y="1629720"/>
            <a:ext cx="1940400" cy="1389600"/>
            <a:chOff x="6607440" y="1629720"/>
            <a:chExt cx="1940400" cy="1389600"/>
          </a:xfrm>
        </p:grpSpPr>
        <p:sp>
          <p:nvSpPr>
            <p:cNvPr id="85" name="_s64555"/>
            <p:cNvSpPr/>
            <p:nvPr/>
          </p:nvSpPr>
          <p:spPr>
            <a:xfrm>
              <a:off x="7224840" y="1876320"/>
              <a:ext cx="705600" cy="705240"/>
            </a:xfrm>
            <a:prstGeom prst="ellipse">
              <a:avLst/>
            </a:prstGeom>
            <a:solidFill>
              <a:srgbClr val="333399">
                <a:alpha val="50000"/>
              </a:srgbClr>
            </a:solidFill>
            <a:ln w="4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64556"/>
            <p:cNvSpPr/>
            <p:nvPr/>
          </p:nvSpPr>
          <p:spPr>
            <a:xfrm>
              <a:off x="7391880" y="1629720"/>
              <a:ext cx="371160" cy="17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64557"/>
            <p:cNvSpPr/>
            <p:nvPr/>
          </p:nvSpPr>
          <p:spPr>
            <a:xfrm>
              <a:off x="7457040" y="2279160"/>
              <a:ext cx="705600" cy="70524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64558"/>
            <p:cNvSpPr/>
            <p:nvPr/>
          </p:nvSpPr>
          <p:spPr>
            <a:xfrm>
              <a:off x="8176680" y="2843280"/>
              <a:ext cx="371160" cy="1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64559"/>
            <p:cNvSpPr/>
            <p:nvPr/>
          </p:nvSpPr>
          <p:spPr>
            <a:xfrm>
              <a:off x="6991560" y="2278440"/>
              <a:ext cx="705600" cy="70524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46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64560"/>
            <p:cNvSpPr/>
            <p:nvPr/>
          </p:nvSpPr>
          <p:spPr>
            <a:xfrm>
              <a:off x="6607440" y="2843280"/>
              <a:ext cx="371160" cy="1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6596280" y="3780360"/>
            <a:ext cx="2232360" cy="1924920"/>
            <a:chOff x="6596280" y="3780360"/>
            <a:chExt cx="2232360" cy="1924920"/>
          </a:xfrm>
        </p:grpSpPr>
        <p:sp>
          <p:nvSpPr>
            <p:cNvPr id="92" name="_s64567"/>
            <p:cNvSpPr/>
            <p:nvPr/>
          </p:nvSpPr>
          <p:spPr>
            <a:xfrm>
              <a:off x="6596280" y="4320360"/>
              <a:ext cx="1384920" cy="1384920"/>
            </a:xfrm>
            <a:prstGeom prst="donut">
              <a:avLst>
                <a:gd name="adj" fmla="val 1666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64568"/>
            <p:cNvSpPr/>
            <p:nvPr/>
          </p:nvSpPr>
          <p:spPr>
            <a:xfrm>
              <a:off x="8459640" y="4395600"/>
              <a:ext cx="369000" cy="30744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64565"/>
            <p:cNvSpPr/>
            <p:nvPr/>
          </p:nvSpPr>
          <p:spPr>
            <a:xfrm>
              <a:off x="6826680" y="4550760"/>
              <a:ext cx="923400" cy="923400"/>
            </a:xfrm>
            <a:prstGeom prst="donut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64566"/>
            <p:cNvSpPr/>
            <p:nvPr/>
          </p:nvSpPr>
          <p:spPr>
            <a:xfrm>
              <a:off x="8459640" y="4088160"/>
              <a:ext cx="369000" cy="30744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64563"/>
            <p:cNvSpPr/>
            <p:nvPr/>
          </p:nvSpPr>
          <p:spPr>
            <a:xfrm>
              <a:off x="7058160" y="4781880"/>
              <a:ext cx="461520" cy="461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64564"/>
            <p:cNvSpPr/>
            <p:nvPr/>
          </p:nvSpPr>
          <p:spPr>
            <a:xfrm>
              <a:off x="8459640" y="3780360"/>
              <a:ext cx="369000" cy="30744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4576320" y="1628640"/>
            <a:ext cx="1425960" cy="1193040"/>
            <a:chOff x="4576320" y="1628640"/>
            <a:chExt cx="1425960" cy="1193040"/>
          </a:xfrm>
        </p:grpSpPr>
        <p:sp>
          <p:nvSpPr>
            <p:cNvPr id="99" name="_s64575"/>
            <p:cNvSpPr/>
            <p:nvPr/>
          </p:nvSpPr>
          <p:spPr>
            <a:xfrm>
              <a:off x="4845240" y="1628640"/>
              <a:ext cx="888120" cy="830160"/>
            </a:xfrm>
            <a:custGeom>
              <a:avLst/>
              <a:gdLst>
                <a:gd name="textAreaLeft" fmla="*/ 0 w 888120"/>
                <a:gd name="textAreaRight" fmla="*/ 888480 w 888120"/>
                <a:gd name="textAreaTop" fmla="*/ 0 h 830160"/>
                <a:gd name="textAreaBottom" fmla="*/ 830520 h 83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64576"/>
            <p:cNvSpPr/>
            <p:nvPr/>
          </p:nvSpPr>
          <p:spPr>
            <a:xfrm rot="7200000">
              <a:off x="4995000" y="1796400"/>
              <a:ext cx="830160" cy="88776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887760"/>
                <a:gd name="textAreaBottom" fmla="*/ 888120 h 88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64578"/>
            <p:cNvSpPr/>
            <p:nvPr/>
          </p:nvSpPr>
          <p:spPr>
            <a:xfrm rot="14400000">
              <a:off x="4753080" y="1796040"/>
              <a:ext cx="830160" cy="88776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887760"/>
                <a:gd name="textAreaBottom" fmla="*/ 888120 h 88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64573"/>
            <p:cNvSpPr/>
            <p:nvPr/>
          </p:nvSpPr>
          <p:spPr>
            <a:xfrm>
              <a:off x="5532840" y="1779120"/>
              <a:ext cx="35568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64574"/>
            <p:cNvSpPr/>
            <p:nvPr/>
          </p:nvSpPr>
          <p:spPr>
            <a:xfrm>
              <a:off x="5111280" y="2462760"/>
              <a:ext cx="35568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64577"/>
            <p:cNvSpPr/>
            <p:nvPr/>
          </p:nvSpPr>
          <p:spPr>
            <a:xfrm>
              <a:off x="4689360" y="1779840"/>
              <a:ext cx="35568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C48D-1354-4E81-9BA1-961673423F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werPoint nám také umožňuj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08080" y="1427040"/>
            <a:ext cx="8116920" cy="434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57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harlesworth"/>
              </a:rPr>
              <a:t>...hrát </a:t>
            </a:r>
            <a:endParaRPr b="0" i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harlesworth"/>
              <a:ea typeface="Charlesworth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harlesworth"/>
              </a:rPr>
              <a:t>si </a:t>
            </a:r>
            <a:endParaRPr b="0" i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harlesworth"/>
              <a:ea typeface="Charlesworth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harlesworth"/>
              </a:rPr>
              <a:t>s </a:t>
            </a:r>
            <a:endParaRPr b="0" i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harlesworth"/>
              <a:ea typeface="Charlesworth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harlesworth"/>
              </a:rPr>
              <a:t>textem</a:t>
            </a:r>
            <a:endParaRPr b="0" i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harlesworth"/>
              <a:ea typeface="Charlesworth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9E6F-48E8-44C0-A073-0DC16B1EDF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Můžeme také upravovat data z jiných aplikací, např. z Excel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042920" y="1700280"/>
          <a:ext cx="6913800" cy="445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700280"/>
                    <a:ext cx="6913800" cy="44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i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A44B-96F7-4934-8496-8BEF1DCF2A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Point umožňu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kládat do prezentací internetové odkazy na „vnější“ stránky –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odkaz na předpověď počas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hybovat se prostřednictvím odkazů po prezentaci –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přechod na začátek prezent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kládat možnost poslání dopisu na příslušnou adresu –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oslat mail autorovi prezent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4F48-639B-4A9D-AF5C-35104A40147D}" type="slidenum">
              <a:t>8</a:t>
            </a:fld>
          </a:p>
        </p:txBody>
      </p:sp>
    </p:spTree>
  </p:cSld>
  <p:transition spd="slow">
    <p:wheel spokes="2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werPoint nám umožňuje používat filmové a zvukové sekv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048120" y="271944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E65E-2E4B-4FF0-9431-5E08E3E7456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3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1:11:27Z</dcterms:created>
  <dc:creator>Poč.učebny</dc:creator>
  <dc:description/>
  <dc:language>en-US</dc:language>
  <cp:lastModifiedBy>j</cp:lastModifiedBy>
  <dcterms:modified xsi:type="dcterms:W3CDTF">2006-12-04T20:57:46Z</dcterms:modified>
  <cp:revision>18</cp:revision>
  <dc:subject/>
  <dc:title>Microsoft Access</dc:title>
</cp:coreProperties>
</file>